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D1C89-D150-4812-B6A5-4D03EE839E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38F8C-AD96-4FB2-9020-90C598774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568AC7-C256-4780-959C-5BF79E3853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8B15EA-51B1-42F1-939A-F60C65E3FD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E94202-A1F3-4BBA-BBD2-C51932B725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43C160-4AA8-4F26-A3E7-7825B2604D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D7B7CE-CDA2-4C85-8ACF-B2B195890E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EE1F42-EEAE-46B1-9D9B-12F95DA5BB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A71977-B8E8-4EA2-BB63-75C890B520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A148DF-D690-475C-B0CB-E41A5FC2CC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D5E7FC-ADF7-482D-9DA0-3B02603263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39905-EC16-4051-9F1E-0FF5576B3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A1C55B-0F3B-42A2-822A-5C6290847A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9C899-5E7E-47D4-BEB1-29ADD0A95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4221CE-35F9-4A16-874B-D2D642933F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E10802-61BA-46E1-A1C6-864D07C000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0E8CB0-7AF3-49B1-9085-1E786AD033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45C10-DC74-47E0-94DC-259D41EA6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3AE3D-79BF-4BA4-8CC9-0C261B9D3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5C688-163D-4ADC-8BFF-E5D75CA95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6D38C-B8DD-430A-943A-EAD3BDD35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1EC11-B7EF-4B3C-8741-FF1B25C1E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69D77-BA88-4298-82A1-C4FF8852D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17385-4E84-4F0E-A6BA-C83ED1C83C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2A762-99E8-4EC3-9359-D641D500600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8B209-CC29-478E-A520-5B34F442309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English</a:t>
            </a:r>
            <a:endParaRPr b="0" lang="en-US" sz="48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Oct. 8</a:t>
            </a:r>
            <a:endParaRPr b="0" lang="en-US" sz="5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genda</a:t>
            </a:r>
            <a:endParaRPr b="0" lang="en-US" sz="4400" spc="-1" strike="noStrike">
              <a:solidFill>
                <a:srgbClr val="ffff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urn in your homework question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L</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 10</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ck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OL</a:t>
            </a:r>
            <a:endParaRPr b="0" lang="en-US" sz="4400" spc="-1" strike="noStrike">
              <a:solidFill>
                <a:srgbClr val="ffff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June 6 1642 an earthquake struck Port Royal jamaica and Port Royal was the home of many pirates and all the riches of the pirates fell into the sea along with the city so scuba divers are still looking for pirates treasure there.</a:t>
            </a:r>
            <a:endParaRPr b="0" lang="en-US" sz="3200" spc="-1" strike="noStrike">
              <a:solidFill>
                <a:srgbClr val="ffffff"/>
              </a:solidFill>
              <a:latin typeface="Arial"/>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alogy:family::etymology:_________</a:t>
            </a:r>
            <a:endParaRPr b="0"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ar:unendurable::see:___________</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ssignment</a:t>
            </a:r>
            <a:endParaRPr b="0" lang="en-US" sz="4400" spc="-1" strike="noStrike">
              <a:solidFill>
                <a:srgbClr val="ffff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 Ch. 10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 ch. 11 together</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ing assignmen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mework</a:t>
            </a:r>
            <a:endParaRPr b="0" lang="en-US" sz="4400" spc="-1" strike="noStrike">
              <a:solidFill>
                <a:srgbClr val="ffffff"/>
              </a:solidFill>
              <a:latin typeface="Arial"/>
            </a:endParaRPr>
          </a:p>
        </p:txBody>
      </p:sp>
      <p:sp>
        <p:nvSpPr>
          <p:cNvPr id="171" name=""/>
          <p:cNvSpPr/>
          <p:nvPr/>
        </p:nvSpPr>
        <p:spPr>
          <a:xfrm>
            <a:off x="457200" y="1371600"/>
            <a:ext cx="8305920" cy="46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Read Ch. 12 and 13, do questions. </a:t>
            </a:r>
            <a:endParaRPr b="0" lang="en-US" sz="6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Have a good weekend!!</a:t>
            </a:r>
            <a:r>
              <a:rPr b="0" lang="en-US" sz="6000" spc="-1" strike="noStrike">
                <a:solidFill>
                  <a:srgbClr val="ffffff"/>
                </a:solidFill>
                <a:latin typeface="Wingdings"/>
                <a:ea typeface="Wingdings"/>
              </a:rPr>
              <a:t></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8T15:55:41Z</dcterms:created>
  <dc:creator>VMS</dc:creator>
  <dc:description/>
  <dc:language>en-US</dc:language>
  <cp:lastModifiedBy>VMS</cp:lastModifiedBy>
  <dcterms:modified xsi:type="dcterms:W3CDTF">2009-10-08T16:01:08Z</dcterms:modified>
  <cp:revision>1</cp:revision>
  <dc:subject/>
  <dc:title>English</dc:title>
</cp:coreProperties>
</file>